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95E-EAD1-456D-8E37-AAF4C5DF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E97-0718-4D7E-9E99-ED4FB3A1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FF1-F73E-4443-87C1-0D2BC7B6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35D-C8A2-4171-A63F-D35CCAE8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A2B8-5C0A-4ADE-9120-00F1DE1A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4FE-4EC4-4D87-8CB3-94CD908D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1C43-C108-4319-BC39-C3CF7176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1349-3C61-4B11-A01B-9530CBCE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A765-0E4B-472E-BDB8-0E5C0EDE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3A27-AC8F-4876-B081-3E24FC67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53A3-C8BA-4123-8282-5E1BB567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E42-EEC0-458E-B305-31AD2A94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B68C-6F39-4DC2-A90C-8EFC5CA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E17A-C516-4D59-8CBE-85DAFD9B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EE31-CCEB-4BC4-9318-0D28FC86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8D39-DD8B-4604-84AF-6408A061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01AB-69F8-4D94-9041-C44ECFF2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EAF-CC34-407C-935F-A015335E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3EE-011B-4C26-B30C-F3AF21F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E94-8596-448F-AE7D-2EEA50C1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E4F-956B-4201-8F95-88F2475F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4F8-F916-49AB-953D-34924133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0BF-79E0-4A24-864E-2C48B81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C94-073A-4404-94A6-7ED5D02E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1FE-6115-4624-ACF4-788B70DC73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380C-A0F5-4679-87E5-4B5B91925B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hunya.net/Pictures/NorthIndia/Delhi/Museum/KushanCourtesan.jpg&amp;imgrefurl=http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Chapter 9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, Society, and the Quest for Salvation in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4025-7E70-4F59-9E34-B1F32AEEC4B4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gional Kingdom: Kusha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thern India/Central A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1-300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ed silk road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353040" cy="317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1905120" cy="32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D1F-4160-44A1-BA37-B2817712A7A4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Gupta Dynas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in Magadh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ed by Chandra Gupta (no relation to Chandragupta Maurya), c. 320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ghtly smaller than Mauryan Empi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decentralized leader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95680" y="4419720"/>
            <a:ext cx="381024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F02-299A-43DF-9A07-C2531F09D142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upta Trade: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upta era is a time of prosperity due to the succession of powerful and efficient k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de was predominantly managed or regulated by the government such as:   mines and crown lan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rned staggering profits in commercial dealings: location, location, locatio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rge  private sector also exis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ey economy (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. BCE) copper and gold leads to banking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rter still a common practi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EC1-1024-46BF-970A-57FA0B8DA18D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upta Declin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 invasions of White Huns, 5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pta Dynasty disintegrates along regional fault l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r local kingdoms dominate until Mughal Empire founded in 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5334120"/>
            <a:ext cx="512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images.google.ca/imgres?imgurl=http://</a:t>
            </a:r>
            <a:r>
              <a:rPr b="0" lang="en-US" sz="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Artifact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://www.shunya.net/Pictures/NorthIndia/Delhi/Museum/NationalMuseum.htm&amp;usg=__slfE0yJCETiWfcyV-z-q9YRPo_k=&amp;h=900&amp;w=703&amp;sz=149&amp;hl=en&amp;start=3&amp;tbnid=lmVBn1XcZiPlBM:&amp;tbnh=146&amp;tbnw=114&amp;prev=/images%3Fq%3DKushan%26gbv%3D2%26hl%3Den%26client%3Dfirefox-a%26rls%3Dorg.mozilla:en-US:official%26sa%3D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D78-1558-47CB-9AFB-03990E2CFEE1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conomy: Towns and Manufacturi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ufactured goods in big dem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in dense network of small worksho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 intense, capitalizes on trade routes across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2C7-9E00-4C30-A911-285AC7DD22CA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Long-Distanc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an connection since Cyrus, Dari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ive road-building projects under Persian ru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ander extends trade west to Maced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 routes through Kush mountains, the silk roa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FA3-00DF-434A-97EC-F4C92EB4A268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rade in the Indian Ocean Basi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sonal sea trade expan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ing/winter winds blow from south-west, fall/winter winds blow from north-w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 from Asia to Persian Gulf and Red Sea, Mediterrane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413-9DCC-4A73-AB57-91AF6190A6A1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ety: Gender Rela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riarchy entrench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marriage common (8 year old girls married to men in 20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men encouraged to remain in private sph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CB4-7E26-4056-8739-1CCC7E95C80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al Orde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te system from Aryan ti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hmins (pries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shatriyas (warriors, aristocra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ishyas (Peasants, merchan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udras (serf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181240"/>
            <a:ext cx="4038480" cy="33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FF1-0DFA-414A-9D6F-5CCC15B612D7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astes and Guild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economic diversification challenges simplistic caste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tis formed: guilds that acted as sub-cas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d social or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castes” forced into low-status employ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2E4-2952-4FCC-ACAF-69A3A7D6935C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The Mauryan and Gupta empire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321 B.C.E.-550 C.E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8640" y="1600200"/>
            <a:ext cx="768672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7A4-E4D9-4318-8109-AD68745D090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ealth and the Social Orde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social mobility possible for Vaishyas, Shudr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lth challenges varna for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8DF-4835-4391-8F8B-91853F90F876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ligions of Salvation in Classical Indi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change generated resentment of caste privili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Brahmins free from tax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5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 BCE new religions and philosophies challenge status qu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vakas: athei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inists, Buddhi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954-5E7C-4653-9F08-4E9C7A94C9B0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Jain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dhamana Mahavira, 540-468 B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andoned privileged family to lead ascetic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s 7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 movement based on Upanisha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selfless living, concern for all be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E03-EC99-4907-88FA-D27616C1B4EA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hims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 of extreme non-viol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inists sweep earth, strain water, use slow movements to avoid killing ins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imsa continues to inspire modern movements (Ghandi, Martin Luther King Jr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F0B-E2F4-4D6E-BB09-3F4DD590DE81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ppeal of Jain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jected caste, jati distin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vious appeal to underprivileged grou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sceticism too extreme to become a mass mov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EA5-1BC7-4645-AFE7-3FCB2E190EE1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arly Buddh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dhartha Gautama, c. 563-483 B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ountered age, sickness, death, then monastic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andoned comfortable life to become a mon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068-9A2B-4F94-B384-7A1B14D476A4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autama’s Search for Enlightenmen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se meditation, extreme ascetic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 days of meditation under bo tree to finally achieve enlighte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ed title Buddha: “the enlightened one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A09-3CA8-4922-9264-AACAA39B8366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Buddha and his Follower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s teaching new doctrine c. 528 B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ers owned only robes, food bow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 of wandering, begging, medi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ment of monastic commun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FDE-8BD2-46FF-9814-2C83BC651FCA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uddha and his Discipl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5600" y="1600200"/>
            <a:ext cx="57528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FEB-FC70-44DC-8E32-4AFF24374B5E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uddhist Doctrine: The Dharm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ur Noble Tru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life is suff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an end to suff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ing desire removes suff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may be done through the eight-fold p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ight views, intention, speech, action, livelihood, effort, mindfulness, concent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244-8AE7-4FD2-83D1-F208602878D4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dia Before the Mauryan Dynas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20 BCE Persian Emperor Darius conquers north-west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s Persian ruling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7 Alexander of Macedon destroys Persian Empire in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ops mutiny, departs after 2 ye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tical power vacu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B2F-D1A1-4714-8343-FD2BF4EFB76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ppeal of Buddh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s dependence on Brahmins for ritual activ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gnition of caste, jati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osophy of moderate consump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service through lay teach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vernacular, not Sanskr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7D7-A685-4470-ABF0-1F2177FFC9AA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 Buddhist Monaste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95600" y="1600200"/>
            <a:ext cx="57528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338-4BE5-4680-8D5D-68F1C82E1EB4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shoka’s Support of Buddh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conversion to Buddh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illusioned after violent war  with Kaling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ned animal sacrifices, mandated vegetarianism in cou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support for Buddhist institutions, missionary activ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121-BC0D-47F4-989E-634FECEA1503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anges in Buddhist though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 BCE – 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a considered div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tion of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dhisatva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“saints”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itable donations to monasteries regarded as pious a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FE9-91AA-4D4E-AACC-D699B0384ED7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pread of Mahayana Buddh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hayana (“greater vehicle”), newer development – competed with the concept of salvation (good work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a seen as religious figure creation of relig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a, China, Japan, Korea, central As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nayana (“lesser vehicle,” also Theravada), earlier version – traditional, considered for the wealthy (personal behavior – a philosoph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ylon, Burma, Thail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61E-45AA-4181-8921-55BE9E8B0EA0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land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ist Monaste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si-university: Buddhism, Hindu texts, philosophy, astronomy, medic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ak at end of Gupta dynas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d spread Indian thou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mathematical number zer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B37-C068-4456-B862-A1F92EA81666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mergence of Popular Hindu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sition of epics from older oral tradi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habhar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maya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god Vishnu and his incarn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E7C-734A-48EA-986B-D7D4784623F0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aramond"/>
              </a:rPr>
              <a:t>Bhagavad Gi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g of the Lord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uries of revisions, final form c. 400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ue between Arjuna and Krishna during civil w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8E0-932B-4E97-9446-8CB57CEBAD36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Hindu Ethic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meeting class obligations 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arm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suit of economic well-being and honesty 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h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joyment of social, physical and sexual pleasure 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m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vation of the soul 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ksh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D95-A9FA-49B9-ACB8-C1DFA73D6A06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pularity of Hindu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ually replaced Buddhism in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pta dynastic leaders extend considerable sup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C92-EC53-4BFC-9B99-E88B7EA27E4D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Kingdom of Magadh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ignificant remaining kingdom after Alexander’s depar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 Ganges pl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streng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 in Ganges valley, Bay of Ben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inated surrounding regions in north-eastern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D95-DFA0-49CC-AF77-C7D1B70A12DB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dia and Isla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lamic introduction into India in the 8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C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dian pirates/Apology/ Iraq/Sind 711 – then to Punjab Pg. 24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wave of Islam due to Turkic speaking people – Mahmud of Ghazni (map pg 24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hmud = a strong ruler but turned off Hindu followers losing a lot of wealth in the proc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631-A4A6-4CA9-B840-0BDE53FBF202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India and Islam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3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 C – 1200’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slims held power in the form of Delhi sultan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ends over Northern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esn’t immediately gain control over Deccan Plateau and surrounding area as they are fighting the Mongols under the rule of Genghis Kah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1320 – 1413 Sultanates in power until the rise of Tamerlane a Mongol khan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MARTPenAnnotation0"/>
          <p:cNvSpPr/>
          <p:nvPr/>
        </p:nvSpPr>
        <p:spPr>
          <a:xfrm>
            <a:off x="6589800" y="2170080"/>
            <a:ext cx="760320" cy="55440"/>
          </a:xfrm>
          <a:custGeom>
            <a:avLst/>
            <a:gdLst/>
            <a:ahLst/>
            <a:rect l="l" t="t" r="r" b="b"/>
            <a:pathLst>
              <a:path w="479" h="35">
                <a:moveTo>
                  <a:pt x="0" y="17"/>
                </a:moveTo>
                <a:lnTo>
                  <a:pt x="10" y="17"/>
                </a:lnTo>
                <a:lnTo>
                  <a:pt x="12" y="16"/>
                </a:lnTo>
                <a:lnTo>
                  <a:pt x="14" y="15"/>
                </a:lnTo>
                <a:lnTo>
                  <a:pt x="17" y="14"/>
                </a:lnTo>
                <a:lnTo>
                  <a:pt x="20" y="13"/>
                </a:lnTo>
                <a:lnTo>
                  <a:pt x="27" y="12"/>
                </a:lnTo>
                <a:lnTo>
                  <a:pt x="35" y="11"/>
                </a:lnTo>
                <a:lnTo>
                  <a:pt x="38" y="11"/>
                </a:lnTo>
                <a:lnTo>
                  <a:pt x="43" y="10"/>
                </a:lnTo>
                <a:lnTo>
                  <a:pt x="47" y="8"/>
                </a:lnTo>
                <a:lnTo>
                  <a:pt x="52" y="7"/>
                </a:lnTo>
                <a:lnTo>
                  <a:pt x="60" y="6"/>
                </a:lnTo>
                <a:lnTo>
                  <a:pt x="71" y="6"/>
                </a:lnTo>
                <a:lnTo>
                  <a:pt x="84" y="5"/>
                </a:lnTo>
                <a:lnTo>
                  <a:pt x="90" y="4"/>
                </a:lnTo>
                <a:lnTo>
                  <a:pt x="95" y="3"/>
                </a:lnTo>
                <a:lnTo>
                  <a:pt x="102" y="2"/>
                </a:lnTo>
                <a:lnTo>
                  <a:pt x="116" y="1"/>
                </a:lnTo>
                <a:lnTo>
                  <a:pt x="132" y="0"/>
                </a:lnTo>
                <a:lnTo>
                  <a:pt x="168" y="0"/>
                </a:lnTo>
                <a:lnTo>
                  <a:pt x="176" y="1"/>
                </a:lnTo>
                <a:lnTo>
                  <a:pt x="184" y="2"/>
                </a:lnTo>
                <a:lnTo>
                  <a:pt x="192" y="3"/>
                </a:lnTo>
                <a:lnTo>
                  <a:pt x="201" y="4"/>
                </a:lnTo>
                <a:lnTo>
                  <a:pt x="210" y="4"/>
                </a:lnTo>
                <a:lnTo>
                  <a:pt x="219" y="5"/>
                </a:lnTo>
                <a:lnTo>
                  <a:pt x="237" y="5"/>
                </a:lnTo>
                <a:lnTo>
                  <a:pt x="246" y="5"/>
                </a:lnTo>
                <a:lnTo>
                  <a:pt x="255" y="6"/>
                </a:lnTo>
                <a:lnTo>
                  <a:pt x="265" y="7"/>
                </a:lnTo>
                <a:lnTo>
                  <a:pt x="274" y="8"/>
                </a:lnTo>
                <a:lnTo>
                  <a:pt x="283" y="9"/>
                </a:lnTo>
                <a:lnTo>
                  <a:pt x="291" y="10"/>
                </a:lnTo>
                <a:lnTo>
                  <a:pt x="299" y="10"/>
                </a:lnTo>
                <a:lnTo>
                  <a:pt x="308" y="11"/>
                </a:lnTo>
                <a:lnTo>
                  <a:pt x="316" y="12"/>
                </a:lnTo>
                <a:lnTo>
                  <a:pt x="325" y="14"/>
                </a:lnTo>
                <a:lnTo>
                  <a:pt x="335" y="15"/>
                </a:lnTo>
                <a:lnTo>
                  <a:pt x="344" y="15"/>
                </a:lnTo>
                <a:lnTo>
                  <a:pt x="353" y="16"/>
                </a:lnTo>
                <a:lnTo>
                  <a:pt x="362" y="17"/>
                </a:lnTo>
                <a:lnTo>
                  <a:pt x="370" y="18"/>
                </a:lnTo>
                <a:lnTo>
                  <a:pt x="378" y="19"/>
                </a:lnTo>
                <a:lnTo>
                  <a:pt x="386" y="20"/>
                </a:lnTo>
                <a:lnTo>
                  <a:pt x="394" y="21"/>
                </a:lnTo>
                <a:lnTo>
                  <a:pt x="401" y="22"/>
                </a:lnTo>
                <a:lnTo>
                  <a:pt x="409" y="22"/>
                </a:lnTo>
                <a:lnTo>
                  <a:pt x="416" y="24"/>
                </a:lnTo>
                <a:lnTo>
                  <a:pt x="424" y="25"/>
                </a:lnTo>
                <a:lnTo>
                  <a:pt x="431" y="26"/>
                </a:lnTo>
                <a:lnTo>
                  <a:pt x="437" y="27"/>
                </a:lnTo>
                <a:lnTo>
                  <a:pt x="443" y="27"/>
                </a:lnTo>
                <a:lnTo>
                  <a:pt x="449" y="28"/>
                </a:lnTo>
                <a:lnTo>
                  <a:pt x="455" y="29"/>
                </a:lnTo>
                <a:lnTo>
                  <a:pt x="461" y="31"/>
                </a:lnTo>
                <a:lnTo>
                  <a:pt x="466" y="32"/>
                </a:lnTo>
                <a:lnTo>
                  <a:pt x="469" y="32"/>
                </a:lnTo>
                <a:lnTo>
                  <a:pt x="478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MARTPenAnnotation1"/>
          <p:cNvSpPr/>
          <p:nvPr/>
        </p:nvSpPr>
        <p:spPr>
          <a:xfrm>
            <a:off x="847800" y="2625840"/>
            <a:ext cx="1636560" cy="55440"/>
          </a:xfrm>
          <a:custGeom>
            <a:avLst/>
            <a:gdLst/>
            <a:ahLst/>
            <a:rect l="l" t="t" r="r" b="b"/>
            <a:pathLst>
              <a:path w="1031" h="35">
                <a:moveTo>
                  <a:pt x="1030" y="17"/>
                </a:moveTo>
                <a:lnTo>
                  <a:pt x="1017" y="17"/>
                </a:lnTo>
                <a:lnTo>
                  <a:pt x="1013" y="16"/>
                </a:lnTo>
                <a:lnTo>
                  <a:pt x="1009" y="15"/>
                </a:lnTo>
                <a:lnTo>
                  <a:pt x="1005" y="14"/>
                </a:lnTo>
                <a:lnTo>
                  <a:pt x="1001" y="13"/>
                </a:lnTo>
                <a:lnTo>
                  <a:pt x="993" y="12"/>
                </a:lnTo>
                <a:lnTo>
                  <a:pt x="963" y="11"/>
                </a:lnTo>
                <a:lnTo>
                  <a:pt x="934" y="10"/>
                </a:lnTo>
                <a:lnTo>
                  <a:pt x="927" y="9"/>
                </a:lnTo>
                <a:lnTo>
                  <a:pt x="920" y="8"/>
                </a:lnTo>
                <a:lnTo>
                  <a:pt x="913" y="7"/>
                </a:lnTo>
                <a:lnTo>
                  <a:pt x="898" y="6"/>
                </a:lnTo>
                <a:lnTo>
                  <a:pt x="868" y="6"/>
                </a:lnTo>
                <a:lnTo>
                  <a:pt x="846" y="5"/>
                </a:lnTo>
                <a:lnTo>
                  <a:pt x="838" y="4"/>
                </a:lnTo>
                <a:lnTo>
                  <a:pt x="831" y="2"/>
                </a:lnTo>
                <a:lnTo>
                  <a:pt x="823" y="2"/>
                </a:lnTo>
                <a:lnTo>
                  <a:pt x="806" y="1"/>
                </a:lnTo>
                <a:lnTo>
                  <a:pt x="781" y="0"/>
                </a:lnTo>
                <a:lnTo>
                  <a:pt x="535" y="0"/>
                </a:lnTo>
                <a:lnTo>
                  <a:pt x="523" y="0"/>
                </a:lnTo>
                <a:lnTo>
                  <a:pt x="512" y="1"/>
                </a:lnTo>
                <a:lnTo>
                  <a:pt x="501" y="3"/>
                </a:lnTo>
                <a:lnTo>
                  <a:pt x="490" y="4"/>
                </a:lnTo>
                <a:lnTo>
                  <a:pt x="467" y="5"/>
                </a:lnTo>
                <a:lnTo>
                  <a:pt x="455" y="5"/>
                </a:lnTo>
                <a:lnTo>
                  <a:pt x="443" y="7"/>
                </a:lnTo>
                <a:lnTo>
                  <a:pt x="431" y="8"/>
                </a:lnTo>
                <a:lnTo>
                  <a:pt x="418" y="9"/>
                </a:lnTo>
                <a:lnTo>
                  <a:pt x="407" y="10"/>
                </a:lnTo>
                <a:lnTo>
                  <a:pt x="383" y="10"/>
                </a:lnTo>
                <a:lnTo>
                  <a:pt x="361" y="11"/>
                </a:lnTo>
                <a:lnTo>
                  <a:pt x="349" y="11"/>
                </a:lnTo>
                <a:lnTo>
                  <a:pt x="338" y="13"/>
                </a:lnTo>
                <a:lnTo>
                  <a:pt x="327" y="14"/>
                </a:lnTo>
                <a:lnTo>
                  <a:pt x="316" y="15"/>
                </a:lnTo>
                <a:lnTo>
                  <a:pt x="296" y="16"/>
                </a:lnTo>
                <a:lnTo>
                  <a:pt x="264" y="16"/>
                </a:lnTo>
                <a:lnTo>
                  <a:pt x="197" y="17"/>
                </a:lnTo>
                <a:lnTo>
                  <a:pt x="187" y="17"/>
                </a:lnTo>
                <a:lnTo>
                  <a:pt x="176" y="18"/>
                </a:lnTo>
                <a:lnTo>
                  <a:pt x="166" y="20"/>
                </a:lnTo>
                <a:lnTo>
                  <a:pt x="157" y="20"/>
                </a:lnTo>
                <a:lnTo>
                  <a:pt x="138" y="21"/>
                </a:lnTo>
                <a:lnTo>
                  <a:pt x="109" y="22"/>
                </a:lnTo>
                <a:lnTo>
                  <a:pt x="100" y="23"/>
                </a:lnTo>
                <a:lnTo>
                  <a:pt x="92" y="24"/>
                </a:lnTo>
                <a:lnTo>
                  <a:pt x="84" y="25"/>
                </a:lnTo>
                <a:lnTo>
                  <a:pt x="76" y="26"/>
                </a:lnTo>
                <a:lnTo>
                  <a:pt x="61" y="27"/>
                </a:lnTo>
                <a:lnTo>
                  <a:pt x="53" y="28"/>
                </a:lnTo>
                <a:lnTo>
                  <a:pt x="46" y="29"/>
                </a:lnTo>
                <a:lnTo>
                  <a:pt x="38" y="31"/>
                </a:lnTo>
                <a:lnTo>
                  <a:pt x="31" y="32"/>
                </a:lnTo>
                <a:lnTo>
                  <a:pt x="25" y="32"/>
                </a:lnTo>
                <a:lnTo>
                  <a:pt x="10" y="33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926-1D62-448C-B982-7A1E84645B4A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slam and Indian Socie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nduism tolerated; however, non-Muslims paid a tax (common practice in other locations as wel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ignment: Briefly do a Venn Diagram comparing Islam to Hindu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7CB-BD97-4E7C-A364-6D6FC68CF44D}" type="slidenum">
              <a:t>42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andragupta Maury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k advantage of power vacuum left by Alexan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threw Magadha rul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ed kingdom to create 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nified Indian empi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uryan Dynas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ED3-001D-4396-8336-9C989CFB1D8C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andragupta’s Governmen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or Kautaly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ed i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hashastr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anual of political statecraf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eign policies,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estic polic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of s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end: Chandragupta retires to become a monk, starves himself to dea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759-034C-4215-B62B-48E080C066FE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shoka Maury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dson of Chandragup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high point of Mauryan Empire, r. 268-232 B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ed empire to include all of Indian subcontinent except for sou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rulership integrated Indian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154240"/>
            <a:ext cx="4038480" cy="34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26D-3D2B-4D2B-8662-F705BE601F5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Decline of the Mauryan Empi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crisis follows death of Asho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costs of bureaucracy, military not supported by tax reven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 devaluations of currency to pay sala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 begin to abandon Mauryan Empi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ppears by 185 B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422-87BE-40FF-BB37-91837DD5882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gional Kingdom: Bactri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thwestern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ed by Greek-speaking descendants of Alexander’s campa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se cultural activity accompanies active tra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000-867B-4B9D-9968-D1FAEF6248AA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23:37:38Z</dcterms:created>
  <dc:creator>Henry Abramson</dc:creator>
  <dc:description/>
  <dc:language>en-US</dc:language>
  <cp:lastModifiedBy>ripkensa</cp:lastModifiedBy>
  <dcterms:modified xsi:type="dcterms:W3CDTF">2009-11-24T22:54:24Z</dcterms:modified>
  <cp:revision>21</cp:revision>
  <dc:subject/>
  <dc:title>9. State, Society and the Quest for Salvation in India</dc:title>
</cp:coreProperties>
</file>